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2A3-239D-4813-B77C-D0109361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7CA-447E-44B3-93BD-125F2262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669-F06E-4E44-B8AF-65C11746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DE4-EAB0-4E01-B9BF-8A148A8C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2EF-A964-4FDA-AD30-8FA4AA9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8A9-8F6C-4E54-A624-17162E2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E5B-B0F4-4287-948C-0112850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EA6-DFC8-4582-8730-D6F7DC9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CE9-9685-401F-865B-773C5F8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5C9-7E0B-4E6E-BFAC-CB65773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83C-1B4F-4689-92D7-A45CC89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E51-EAED-4141-89FC-B4037E5D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74B-9926-4E6A-B461-E79CC9E02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add a custo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D Rental Use C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" y="1019160"/>
            <a:ext cx="83059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rent a 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Prac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use case description for the use case “Search for a movi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UI form for that us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for the use case “DVD retur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ki.ucalgary.ca/page/Courses/Computer_Science/CPSC_203/CPSC_203_Template/Labs_Template/Week_2_-_Lab_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Design a Softwa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use case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use case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the UI forms using the use case description an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VD Rental Sto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 a DVD rental system that has two main users: a clerk and an ad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lerk can add a customer, remove a customer, update the customer’s info, rent DVD, return DVD, view late returns, search for a specific movie, or search for a specific custom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dmin can add a new DVD, remove a DVD, modify DVD info, or analyze the current ren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55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1976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 Customer Us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86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3:21Z</dcterms:created>
  <dc:creator>Soha</dc:creator>
  <dc:description/>
  <dc:language>en-US</dc:language>
  <cp:lastModifiedBy>Soha</cp:lastModifiedBy>
  <dcterms:modified xsi:type="dcterms:W3CDTF">2009-04-09T09:34:29Z</dcterms:modified>
  <cp:revision>9</cp:revision>
  <dc:subject/>
  <dc:title>Design Skills</dc:title>
</cp:coreProperties>
</file>